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748-411F-4C17-A6F6-8C9CBFDC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3DB4-35E9-4F79-8BDA-1176C85D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0C90-1862-42E2-B4C7-62A7C30B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0D0B-4E1E-4719-825E-9FB7C211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85AF-430C-48C0-B4F7-326C3EEC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3B66-6480-4436-AA82-3C13AC89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6128-72D9-45C8-AE2D-544DD468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1B30-7F96-466C-BA3E-38993A9A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65B0-DAA1-4434-9A46-0F1DC747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E2F2-F072-4F81-9428-3062D5B9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8BF0-7B0C-4F4E-B960-F507667E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FB00-A648-4E0A-8FD2-DAF1A2AE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4875-55F4-4E27-B2AD-A186D1DB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750D-6537-43B8-8C88-9A3C8582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E5B2-D86A-4F12-8F9A-668BF17C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6882-60FE-425C-955F-84D17635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3FEA-176D-446C-917A-E232B521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98AE-8413-48EB-9A1A-E1818A68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32FD-290F-46C5-84E8-D01E8D7F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A51A-775E-40E7-B54C-BE6E002E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BB7E-967C-433B-9B5E-5F75A78B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0D4B-77FB-487C-8EC3-A2F4271F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B9F7-E44E-42A3-A229-16BED55B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F9E0-CA47-42DA-ABE8-B4C318A4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7137-474F-4BB4-8D5B-2915D59F1C6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0502-9285-4881-B0CC-64E00DDB671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E2DB-01AB-426E-9E66-CB086DC3CF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Privacy in Medical Settings vis-à-vis- PLHIV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2322360"/>
            <a:ext cx="51051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une 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LC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371600" y="4255920"/>
            <a:ext cx="64008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11EB-B505-45BC-8AE3-3EAD2EC6C8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patient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Diagnose and counsel patient about HIV and advise an HIV test (</a:t>
            </a:r>
            <a:r>
              <a:rPr b="0" i="1" lang="en-GB" sz="2700" spc="-1" strike="noStrike">
                <a:solidFill>
                  <a:srgbClr val="ffffff"/>
                </a:solidFill>
                <a:latin typeface="Times New Roman"/>
              </a:rPr>
              <a:t>BT v. Oei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o disclose HIV status (</a:t>
            </a: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Reisner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non-identifiable third persons/sexual partners: Disclose HIV status to patient, warn him of its risk to others and how to prevent transmission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isner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37 Cal. Rptr. 2d 518 (1995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BT v. Oei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[1999] NSWSC 10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AFC4-6A29-40A5-A906-08A8CD1CFC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Duty to warn wife or prospective wife arises as the fundamental right of wife to lead a healthy life outweighs the fundamental right of PLHIV to confidentiality and privacy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X v. Hospital Z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, (1998) 8 SCC 2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Right to marry suspended. Subsequently restored vide </a:t>
            </a:r>
            <a:r>
              <a:rPr b="0" i="1" lang="en-GB" sz="2900" spc="-1" strike="noStrike">
                <a:solidFill>
                  <a:srgbClr val="ffffff"/>
                </a:solidFill>
                <a:latin typeface="Tahoma"/>
              </a:rPr>
              <a:t>X. v. Hospital Z</a:t>
            </a: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, (2003) 1 SCC 500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DISCRIMINATORY PRACTICES ARISING OUT OF BREACH OF CONFIDENTIALITY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 Confidenti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stigmatisation/isolation from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loss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termination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llowed 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future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gmatisation/isolation from co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9813-C741-42F8-B9A1-4CEFB92A80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T WORKPLA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tests generally carried out to determine fitness of employ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ctor bound to maintain confidentiality of employee exami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details, including HIV status, need not be disclosed; only fitness is required to be disclo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closure of other details permissible onl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determine fitness of employ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maintain a safe working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protect the employee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 time of recruitment, a person is not bound to disclose HIV status unless required by law to do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IR 1997 Bom 4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National Policy on HIV/AIDS and the World of Work</a:t>
            </a: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Ministry of Labour and Employment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ere is no justification for asking job applicants or workers to disclose HIV-related personal information. Nor should co-workers be obliged to reveal personal information about fellow worker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ersonal data covered by medical confidentiality should be stored only by personnel bound by rules on medical secrecy and should be maintained apart from all other personal data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n case of medical examination, the employer should be informed only of the conclusion relevant to the particular employment decision. The conclusions should contain no information of a medical nature. They might as appropriate, indicate fitness for the proposed assignment or specify the kinds of jobs and the conditions of work which are medically contra-indicated, either temporarily or permanently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E053-BFC7-49EE-9950-1715241C51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fidentiality and RTI Act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nfidentiality required to be maintained of the medical records of a patient including a convict considering the Regulations framed by the Medical Council of India can not override the provisions of the Right to Information A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. Surupsingh Hrya Naik Vs. State of Maharashtra AIR2007Bom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edical reports under RTI 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’s HIV status is confidential and is protected in law and can only be disclosed to a third person in limited circumstances. The RTI Act specifically exempts the disclosure of personal information which is not of public interest; information which would cause an unwarranted invasion of privacy; and information which has been received in a fiduciary capacity. Therefore, The RTI Act, 2005 cannot be used to obtain a person’s HIV repo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the Court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ion and promotion of fundamental rights and dignity of PLHIV’s is critical to HIV/AIDS prevention and control strateg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face injustices on many fronts and are often are afraid to go to court to vindicate their rights thereby violating their right to equal protection of law and due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ression of identity, whereby a person can litigate under a pseudonym, is a beneficent litigation strategy, long established in the area of family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can now apply for suppression orders and seek justice without the fear of HIV status becoming public knowledge. [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IR 1997 Bom 4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F339-D5D2-4F15-A8C8-6536B6E9B6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MED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ivil sui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civil courts)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uty + breach of confidentiality + inju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onsumer complain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District/State/ National Consumer Commission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eficiency of serv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/ compen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Writ petition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High Court under Article 226 and Supreme Court under Article 32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of action: violation of right to life and personal liberty or other fundamental r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Compensation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IGHTS-BASED APPROA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aradoxically enough, the only way in which we will deal effectively with the rapid spread of HIV/AIDS is by respecting and protecting the rights of those already exposed to it and those most at ris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Justice Michael Kir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mer Judge of High Court of Austra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THE  LEGAL  RESPONSE .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ly there have been two types of legal responses to the HIV epidemi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responses are diametrically oppos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can be termed a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ol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 and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tegr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Times New Roman"/>
                <a:ea typeface="ＭＳ Ｐゴシック"/>
              </a:rPr>
              <a:t>RIGHTS IN HIV/A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858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al and other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discrimin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so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,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mandatory 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breach confidenti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rive the epidemic undergr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ws and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ntegr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ncourage them to avail of servi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hich are available and therefore hel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urb the spread of HI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LAW ON HIV/AIDS IN INDIA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entral or state law specifically on HIV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raft law on HIV/AIDS is pending with the Union Health Minist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ly, persons living with HIV whose rights are violated take recourse to provisions in the Constitution and other general laws (employment law, family law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ies and Guidelines by National AIDS Control Organi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61CA-8FC5-4D40-9382-85BDC7C171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r>
              <a:rPr b="0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ormation gathered during counseling must not be shared with other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s to be  reported only to the client unless the client states the desire to share the test result with a family member, partner or close friend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V status and other health information can be shared amongst the  health care providers treating the person to ensure that he receives better treatment and ca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person with HIV has the right to privacy, and also the right to exercise informed consent in all decisions about disclosure in respect of his/her stat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97E3-FED8-4AEF-AC1F-47221CC709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e consent of the person, Counselor can inform the nurse or the operating physician. The disclosed information must be kept confidential by the attending hospital sta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HIV-positive person should be encouraged through counselling to disclose his status to his/her spouse or partner and bring the spouse or partner for counselling to an IC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fter repeated visits the counsellor feels that the client is not ready to share his/her status and the regular sexual partner of the client is deemed to be at risk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artner can be notified of the person's positive stat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is communication with the partner should be, without exception, in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e-to-face set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9B02-09DE-43E4-A1E4-F197A8C83E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Duty to warn third party/ partner  arises whe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resence of a special relationship, e.g. doctor and patien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minent risk of danger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Forseeable person who is endanger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Tarasoff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Cal. 3d 425 (19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03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2513-3FCE-4976-B0DD-47FE60E783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arises when doctor fails to properly advise his patient, who is exposed to a communicable disease, and the patient relying, upon his advice, spreads the disease to a third party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Di Marco v. Lynch Homes-Chester Coun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583 A.2d 422 (1990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tu</cp:lastModifiedBy>
  <dcterms:modified xsi:type="dcterms:W3CDTF">2012-06-29T11:37:26Z</dcterms:modified>
  <cp:revision>38</cp:revision>
  <dc:subject/>
  <dc:title>PowerPoint Presentation</dc:title>
</cp:coreProperties>
</file>